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22FE-5B56-4B0D-8B15-6E3EB109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C305-8A58-470F-A00E-35FADD29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6BB1-8DC5-4375-8BEE-F0B2F091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3E6D-934B-4751-B04B-99E97E57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6550-CA4E-401E-8DFE-5A3D60F1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C650-4AAC-4E35-8697-6DE55CFC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6D0-6BF2-413F-94DA-740E7032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7CB8-B23C-4498-B244-67CFFAE6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BE9F-A348-4713-B85F-DAB60838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ABEB-B723-4F1B-BE38-D8041B09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904F-DBBB-42C0-A743-F48B4A0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693D-C321-4CE2-9A4E-5793E6D5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0728-787B-4C53-88ED-5502EAA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ECF9-54BF-4B05-98B2-75A98EC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A41E-8AD8-4D5D-8EB9-84DAD5CF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B5A9-ACD8-4209-94CA-3351C18A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9AC7-CE1D-4410-922B-BD67095C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C480-605D-4A33-AF0A-4294A28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5227-D94E-4F01-A9A1-6C5C8F6C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15F9-A8DF-4135-9CCD-A325E1A0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F231-20FA-4322-A1C4-B068836D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2A53-A0AB-4131-A351-FE0D0E2D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CDCD-1472-45BF-9A65-9306041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0900-B402-4F77-AE3F-B5A29FED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442-7BC9-4D7B-8064-A43B1A0231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B9B-15AA-485B-9CFD-642C02F8B3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../Documents%20and%20Settings/Desktop/Maths%20ITP/placevalue_pc.EXE" TargetMode="External"/><Relationship Id="rId2" Type="http://schemas.openxmlformats.org/officeDocument/2006/relationships/hyperlink" Target="file:///../../../Documents%20and%20Settings/Desktop/Maths%20ITP/placevalue_pc.EX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16000" y="1413000"/>
            <a:ext cx="71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125360"/>
            <a:ext cx="784872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o be able to use partitioning to double or halve number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tion 58 into tens and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50 + 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f of 50 = 25 ( ½ or divide by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f of 8 = 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these togeth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5084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5661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ve a go at this calculation using your knowledge of partitioning and known ha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Q. What is half of 38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memb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f the number you are halving is an even number it will always halve exac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reas if the number is an odd number the answer will always have the fraction of a half in it ( e.g. half of 13 = 6 ½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easiest way to halve odd numbers is to half the even number just before it and then add on a half to that number (e.g. 13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lf of 12 is 6 + ½ = 6 ½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Well done you can now partition numbers to find doubles and halves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ff"/>
                </a:solidFill>
                <a:latin typeface="Arial"/>
                <a:ea typeface="Arial"/>
              </a:rPr>
              <a:t>☺</a:t>
            </a: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ain activit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th your partner, roll 2 dice to find 2-digit numbers. Then partition them into tens/units and find the doubles/halves and record in your exercise book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.g. 34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30 +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0 = 60 =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 = 8 =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refore 34 = 68 (60 + 8) = 17 (15 + 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lease remember to write the long date along with the title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LO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To be able to use partitioning to double or halve numbers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ear 3’s to work on numbers between 1-50 first (x 10) then go onto numbers 50-100. ( x 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ear 4’s to work on numbers between 1-100. (x 1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tension: roll dice 3 times to create 3-digit numbers and find doubles/halves by partitioning into hundreds/tens/units (x 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cc"/>
                </a:solidFill>
                <a:latin typeface="Comic Sans MS"/>
              </a:rPr>
              <a:t>Place value</a:t>
            </a:r>
            <a:endParaRPr b="0" lang="en-US" sz="6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mbers are categorised as being either units/ones, tens, hundreds or thousands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position of the digit within an number shows its value according to its ‘place’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whole numbers the number on the far right is always the units/ones column, next on the left comes the tens, then the thousands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55640" y="981000"/>
            <a:ext cx="7848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Comic Sans MS"/>
              </a:rPr>
              <a:t>Th H T U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476280"/>
            <a:ext cx="0" cy="482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476280"/>
            <a:ext cx="0" cy="482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76280"/>
            <a:ext cx="0" cy="482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781360"/>
            <a:ext cx="8353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ahoma"/>
              </a:rPr>
              <a:t>Partitioning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titioning is the breaking down of a number into several components according to its place val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.g. 485 = 400 + 80 +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zeros represent a place holder of the other digits ( e.g. tens and units) and without them the number would simply look like a single unit of 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..\..\..\..\Desktop\Maths ITP\</a:t>
            </a:r>
            <a:r>
              <a:rPr b="0" lang="en-GB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placevalue_pc.EX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ffffcc"/>
                </a:solidFill>
                <a:uFillTx/>
                <a:latin typeface="Tahoma"/>
              </a:rPr>
              <a:t>Partitioning and doubling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do we need to partition when doubl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partitioning a number we can use known doubles of smaller numbers and then add these together to calculate the ans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g. double 47 is not a double that most people know of by hear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of you partition it into tens and units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 40 + 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uble 40 is relatively easy = 40x 2 = 8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uble 7 is a known double = 7 x 2 =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d these together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157720"/>
            <a:ext cx="122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748836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ve a go at this calculation using your knowledge of partitioning and known doubl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Q. What is double 67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 u="sng">
                <a:solidFill>
                  <a:srgbClr val="ffffcc"/>
                </a:solidFill>
                <a:uFillTx/>
                <a:latin typeface="Tahoma"/>
              </a:rPr>
              <a:t>Partitioning and halving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do we need to partition when halv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partitioning a number we can use known halves of smaller numbers and then add these together to calculate the ans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half of 58????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8:47:58Z</dcterms:created>
  <dc:creator>Kirsty Router</dc:creator>
  <dc:description/>
  <dc:language>en-US</dc:language>
  <cp:lastModifiedBy>Pitchford</cp:lastModifiedBy>
  <dcterms:modified xsi:type="dcterms:W3CDTF">2006-03-27T13:37:44Z</dcterms:modified>
  <cp:revision>6</cp:revision>
  <dc:subject/>
  <dc:title>Slide 1</dc:title>
</cp:coreProperties>
</file>